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9DEBE5-D26B-4599-B292-D4464161E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AB9D27-7765-4BB8-9870-59395C74C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1B71D-D421-4479-BDF6-42783CF2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3375-7551-4E31-B73C-254AE44C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62EDF-ED39-4C1B-9866-1CDF99F1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01EEF-9D01-487A-9C71-083BF84F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3325B-2FD1-444A-B5CB-AFB828C15F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93C0B-3C67-4345-9FA1-8C414BC923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A7922-DC46-42EF-92C4-0136E3B821D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A02EA-C9BF-4EF1-BF9D-8C474B66DF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F1BA0-C25B-49F5-9290-EB65636C90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4CB3B-0F56-412D-9A1D-02EEE41CAC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94CCC-BA2C-4418-9DF8-89E67B6BD6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228E-CD2A-477B-95A3-03C32267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C988F-04EB-4834-B54C-2EA1836129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38D59A-D212-405C-86B5-24D9E6E17F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DF796-F69F-4D8C-B005-22A102BF29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C3854-EA0F-4B0C-B829-5F1A3A7993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6C11-8DA5-460C-ACD7-A0E737B14EE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3600B5-AD07-4416-AF68-5FDEE80B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A907B-6450-4B15-A7D2-A61737F9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26640-1873-4638-8103-4D3AE0F3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AB2FC0-456B-48B9-A327-AEE120B2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55B820-9E26-41E2-8D97-BD383EEB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7C248-662C-4EA5-80FE-E4FBB49D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893DB-7BE5-444E-A113-DA8C7AAF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CABC93-BB13-4294-B65D-AB3F06F0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17EE7D-5A22-4CFC-835A-844F391E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04B55D-D037-40FD-B6E5-3F3269AF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EC0AB-5F75-4F50-9D6D-CB5D39D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80E0B-1E36-4B0F-B5C0-6466C0D4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20665-CFD1-4F27-BE91-37FC84D1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C269-7BF7-4EE7-A691-36AA87A2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468A0-94BC-44AF-81D4-A95C4616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02431-26C5-4A62-B9CC-160DAE29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000B-4561-48BC-8644-2560C117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AC391-6D51-43B4-8AC5-5444D548D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3D735-64FE-47AC-9CCF-930530C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6006-FD38-409A-9C95-E39CAA7CB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D187-6F04-4BCC-A413-7DCE572A2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0312-13DA-45E1-BB1D-E8447CE6D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7E5B-E24B-46AE-926F-04B38F6AE97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chool Library System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Provide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adership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hared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quitable acces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everaged economic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nnect students and teachers to resource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238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240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55D7A-1BA5-4D49-B6B1-71C011829F90}" type="slidenum">
              <a:t>10</a:t>
            </a:fld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chool Library System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Resources and Service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-1297080" y="-111600"/>
            <a:ext cx="3925800" cy="2596680"/>
            <a:chOff x="-1297080" y="-111600"/>
            <a:chExt cx="3925800" cy="2596680"/>
          </a:xfrm>
        </p:grpSpPr>
        <p:sp>
          <p:nvSpPr>
            <p:cNvPr id="246" name=""/>
            <p:cNvSpPr/>
            <p:nvPr/>
          </p:nvSpPr>
          <p:spPr>
            <a:xfrm flipV="1">
              <a:off x="-1297080" y="830160"/>
              <a:ext cx="2511720" cy="1654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47" name=""/>
            <p:cNvGrpSpPr/>
            <p:nvPr/>
          </p:nvGrpSpPr>
          <p:grpSpPr>
            <a:xfrm>
              <a:off x="-71280" y="-111600"/>
              <a:ext cx="2700000" cy="1945080"/>
              <a:chOff x="-71280" y="-111600"/>
              <a:chExt cx="2700000" cy="1945080"/>
            </a:xfrm>
          </p:grpSpPr>
          <p:sp>
            <p:nvSpPr>
              <p:cNvPr id="248" name=""/>
              <p:cNvSpPr/>
              <p:nvPr/>
            </p:nvSpPr>
            <p:spPr>
              <a:xfrm rot="20341800">
                <a:off x="51840" y="289440"/>
                <a:ext cx="245340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0341800">
                <a:off x="182880" y="364680"/>
                <a:ext cx="218196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2438280" y="2438280"/>
            <a:ext cx="487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CCB9-C307-487C-A3EF-DEC1F62E7797}" type="slidenum">
              <a:t>11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Middle-Level Education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ew and revision –</a:t>
            </a: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Library Media Middle Level Indicators of Achievement Checklists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-72000" y="-1332720"/>
            <a:ext cx="2711880" cy="3366000"/>
            <a:chOff x="-72000" y="-1332720"/>
            <a:chExt cx="2711880" cy="3366000"/>
          </a:xfrm>
        </p:grpSpPr>
        <p:sp>
          <p:nvSpPr>
            <p:cNvPr id="254" name=""/>
            <p:cNvSpPr/>
            <p:nvPr/>
          </p:nvSpPr>
          <p:spPr>
            <a:xfrm flipH="1">
              <a:off x="1330560" y="-1332720"/>
              <a:ext cx="467640" cy="2310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-72000" y="-111240"/>
              <a:ext cx="2711880" cy="2144520"/>
              <a:chOff x="-72000" y="-111240"/>
              <a:chExt cx="2711880" cy="2144520"/>
            </a:xfrm>
          </p:grpSpPr>
          <p:sp>
            <p:nvSpPr>
              <p:cNvPr id="256" name=""/>
              <p:cNvSpPr/>
              <p:nvPr/>
            </p:nvSpPr>
            <p:spPr>
              <a:xfrm rot="20115000">
                <a:off x="78840" y="335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115000">
                <a:off x="208080" y="417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2362320" y="1600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Vital to Success in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High School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D8A58-5DA2-4ABC-978D-97CA1A82532F}" type="slidenum">
              <a:t>12</a:t>
            </a:fld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920" y="2819520"/>
            <a:ext cx="8534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16765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Data Drives Decisions</a:t>
            </a:r>
            <a:endParaRPr b="0" lang="en-US" sz="5400" spc="-1" strike="noStrike">
              <a:solidFill>
                <a:srgbClr val="4b25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5760" y="-1242720"/>
            <a:ext cx="2709360" cy="3342960"/>
            <a:chOff x="-5760" y="-1242720"/>
            <a:chExt cx="2709360" cy="3342960"/>
          </a:xfrm>
        </p:grpSpPr>
        <p:sp>
          <p:nvSpPr>
            <p:cNvPr id="262" name=""/>
            <p:cNvSpPr/>
            <p:nvPr/>
          </p:nvSpPr>
          <p:spPr>
            <a:xfrm flipH="1">
              <a:off x="1395360" y="-124272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-5760" y="-16200"/>
              <a:ext cx="2709360" cy="2116440"/>
              <a:chOff x="-5760" y="-16200"/>
              <a:chExt cx="2709360" cy="2116440"/>
            </a:xfrm>
          </p:grpSpPr>
          <p:sp>
            <p:nvSpPr>
              <p:cNvPr id="264" name=""/>
              <p:cNvSpPr/>
              <p:nvPr/>
            </p:nvSpPr>
            <p:spPr>
              <a:xfrm rot="20172600">
                <a:off x="144000" y="41652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20172600">
                <a:off x="273240" y="4989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2819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Review and Revis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chool Library sections of Basic Educational Data Surveys (BEDS)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tatewide P-16 data systems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527400" indent="-202680">
              <a:lnSpc>
                <a:spcPct val="90000"/>
              </a:lnSpc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Link resources and certified specialists to student achievement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7E92-263E-4AEE-9C5E-996A1172D1AF}" type="slidenum">
              <a:t>13</a:t>
            </a:fld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Centers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 Improve Student Achievement 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1760" y="34286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Revised School Library Media Program Evaluation (SLMPE) Rubric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70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72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E81F-19C5-4F45-AA1A-92A7ECF66960}" type="slidenum">
              <a:t>14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edia Program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ssessmen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304812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-158400" y="-1395000"/>
            <a:ext cx="2709360" cy="3342960"/>
            <a:chOff x="-158400" y="-1395000"/>
            <a:chExt cx="2709360" cy="3342960"/>
          </a:xfrm>
        </p:grpSpPr>
        <p:sp>
          <p:nvSpPr>
            <p:cNvPr id="277" name=""/>
            <p:cNvSpPr/>
            <p:nvPr/>
          </p:nvSpPr>
          <p:spPr>
            <a:xfrm flipH="1">
              <a:off x="1242720" y="-1395000"/>
              <a:ext cx="506160" cy="2302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-158400" y="-168480"/>
              <a:ext cx="2709360" cy="2116440"/>
              <a:chOff x="-158400" y="-168480"/>
              <a:chExt cx="2709360" cy="2116440"/>
            </a:xfrm>
          </p:grpSpPr>
          <p:sp>
            <p:nvSpPr>
              <p:cNvPr id="279" name=""/>
              <p:cNvSpPr/>
              <p:nvPr/>
            </p:nvSpPr>
            <p:spPr>
              <a:xfrm rot="20172600">
                <a:off x="-8280" y="26424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172600">
                <a:off x="120600" y="34668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9B57-85DB-4938-8A59-C7B58B5EA989}" type="slidenum">
              <a:t>15</a:t>
            </a:fld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28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28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DE93-3498-48C6-97DB-CEA203160F1D}" type="slidenum">
              <a:t>16</a:t>
            </a:fld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9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9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467F7-EB0F-4EDE-AB15-A288C2F7ED53}" type="slidenum">
              <a:t>17</a:t>
            </a:fld>
          </a:p>
        </p:txBody>
      </p:sp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2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55440" indent="-55440"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9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9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30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7A15D-7363-41BA-91D0-19269E08E857}" type="slidenum">
              <a:t>18</a:t>
            </a:fld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ED5E-AAA9-4337-80D9-90EC5B336EE6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tandards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Drive Curriculum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New York State </a:t>
            </a:r>
            <a:br>
              <a:rPr sz="3600"/>
            </a:b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Information Literacy Standards</a:t>
            </a:r>
            <a:br>
              <a:rPr sz="3600"/>
            </a:b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84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86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06B29-6814-4810-8608-FA2F428DDD2C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New York State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nformation Literacy Standard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1800"/>
            </a:b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1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93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A4D02-3F1F-416D-A2D1-F970418331AF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Educational Technology -</a:t>
            </a:r>
            <a:br>
              <a:rPr sz="40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Education Law 814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21</a:t>
            </a:r>
            <a:r>
              <a:rPr b="1" lang="en-US" sz="3600" spc="-1" strike="noStrike" baseline="30000">
                <a:solidFill>
                  <a:srgbClr val="a69564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 Century Learners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3657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Internet Safety Course of Study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&amp;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8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200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438560" y="48006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s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F7FA3-0B2A-4396-B7E7-3F0D42EE3147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Educational Technology -</a:t>
            </a:r>
            <a:br>
              <a:rPr sz="4000"/>
            </a:b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Internet Safety Course of Study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9480" y="-101160"/>
            <a:ext cx="2690640" cy="2889720"/>
            <a:chOff x="-69480" y="-101160"/>
            <a:chExt cx="2690640" cy="2889720"/>
          </a:xfrm>
        </p:grpSpPr>
        <p:sp>
          <p:nvSpPr>
            <p:cNvPr id="207" name=""/>
            <p:cNvSpPr/>
            <p:nvPr/>
          </p:nvSpPr>
          <p:spPr>
            <a:xfrm flipH="1" flipV="1">
              <a:off x="1248120" y="850680"/>
              <a:ext cx="696600" cy="193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69480" y="-101160"/>
              <a:ext cx="2690640" cy="1991880"/>
              <a:chOff x="-69480" y="-101160"/>
              <a:chExt cx="2690640" cy="1991880"/>
            </a:xfrm>
          </p:grpSpPr>
          <p:sp>
            <p:nvSpPr>
              <p:cNvPr id="209" name=""/>
              <p:cNvSpPr/>
              <p:nvPr/>
            </p:nvSpPr>
            <p:spPr>
              <a:xfrm rot="20413800">
                <a:off x="70920" y="2692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413800">
                <a:off x="199800" y="3513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4AA78-751A-438F-A148-8D945551AC42}" type="slidenum">
              <a:t>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Quality Collection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Instructional Materials Aid -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fficient to meet the needs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of the learning communit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15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17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"/>
          <p:cNvSpPr/>
          <p:nvPr/>
        </p:nvSpPr>
        <p:spPr>
          <a:xfrm>
            <a:off x="1905120" y="19810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37160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Support the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Needs of Student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0754-E6BD-43FF-96D2-7A019348C350}" type="slidenum">
              <a:t>7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ndation Formula-State Aid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Adequat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stainabl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Fai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mmensurate with cost of educat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nables students to meet the standards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24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26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F834-3D1A-4C01-8450-9CA4750BB856}" type="slidenum">
              <a:t>8</a:t>
            </a:fld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31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33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DCCA-C22B-4378-86F6-2F9BD68E605D}" type="slidenum">
              <a:t>9</a:t>
            </a:fld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14T13:41:26Z</dcterms:modified>
  <cp:revision>114</cp:revision>
  <dc:subject/>
  <dc:title>Work Group Question here</dc:title>
</cp:coreProperties>
</file>